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wmf" ContentType="image/x-wmf"/>
  <Override PartName="/ppt/media/image5.png" ContentType="image/png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9.png" ContentType="image/png"/>
  <Override PartName="/ppt/media/image2.png" ContentType="image/pn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381-837A-4773-96E8-4F8BBF02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DD4B-BBB1-4AE0-BEE0-DE64D76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231-B63B-4B91-9B57-30E6E5C6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318-B011-4A12-8D95-788BCBAE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BD5-40D7-4059-95C0-09FD5188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D37-F7CC-4D79-9D02-1ED5A5B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5CA-9387-4ED2-AB81-4121FC25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531E-328F-449C-B2B7-4C05AD2A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0A7-2300-42DC-86A4-2AB1728A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10C-2FA1-4311-833E-B81E66F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A1A-33F9-47A3-A542-BBE263D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725-EB9A-4AEC-A170-FFE4671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C5D2-D6FD-4959-AFB5-3C33B433C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ineLintGerm"/>
              </a:rPr>
              <a:t>Yok kita belajar tentang</a:t>
            </a:r>
            <a:br>
              <a:rPr sz="6000"/>
            </a:br>
            <a:r>
              <a:rPr b="1" lang="en-US" sz="8000" spc="-1" strike="noStrike">
                <a:solidFill>
                  <a:srgbClr val="000000"/>
                </a:solidFill>
                <a:latin typeface="PineLintGerm"/>
              </a:rPr>
              <a:t>PANTU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133720" y="3505320"/>
            <a:ext cx="4800600" cy="1381680"/>
          </a:xfrm>
          <a:prstGeom prst="rect">
            <a:avLst/>
          </a:prstGeom>
          <a:solidFill>
            <a:srgbClr val="00ff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enceram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ikgu Samsiah Binte Moham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33720" y="5014800"/>
            <a:ext cx="4800600" cy="1015920"/>
          </a:xfrm>
          <a:prstGeom prst="rect">
            <a:avLst/>
          </a:prstGeom>
          <a:solidFill>
            <a:srgbClr val="cc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ewan Kuliah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Maktab Rendah Tamp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6781680" y="2286000"/>
            <a:ext cx="228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6" name="Picture 9" descr="silygrd1"/>
          <p:cNvPicPr/>
          <p:nvPr/>
        </p:nvPicPr>
        <p:blipFill>
          <a:blip r:embed="rId2"/>
          <a:stretch/>
        </p:blipFill>
        <p:spPr>
          <a:xfrm>
            <a:off x="7292880" y="3581280"/>
            <a:ext cx="1622520" cy="260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47" name="Picture 10" descr="silygrd2"/>
          <p:cNvPicPr/>
          <p:nvPr/>
        </p:nvPicPr>
        <p:blipFill>
          <a:blip r:embed="rId3"/>
          <a:stretch/>
        </p:blipFill>
        <p:spPr>
          <a:xfrm>
            <a:off x="228600" y="3581280"/>
            <a:ext cx="1650960" cy="2590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7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3429000"/>
            <a:ext cx="7086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kan kurau ikan keri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ertiga dengan ikan para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alau pandai berbasa-bas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 mana pergi dihormat or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6095880" y="3429000"/>
            <a:ext cx="685800" cy="1981080"/>
          </a:xfrm>
          <a:custGeom>
            <a:avLst/>
            <a:gdLst>
              <a:gd name="textAreaLeft" fmla="*/ 0 w 685800"/>
              <a:gd name="textAreaRight" fmla="*/ 247680 w 68580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81680" y="3886200"/>
            <a:ext cx="2210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angk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9"/>
          <p:cNvSpPr/>
          <p:nvPr/>
        </p:nvSpPr>
        <p:spPr>
          <a:xfrm>
            <a:off x="457200" y="1676520"/>
            <a:ext cx="8229600" cy="12189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tun = Sesuatu yang teratur/tersu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iap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angka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,4,6,8,10 b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3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095880" cy="685800"/>
          </a:xfrm>
          <a:prstGeom prst="rect">
            <a:avLst/>
          </a:prstGeom>
          <a:solidFill>
            <a:srgbClr val="ffff00">
              <a:alpha val="8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tu bari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4 atau 5 perka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1295280" y="3429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kan kurau ikan ker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"/>
          <p:cNvSpPr/>
          <p:nvPr/>
        </p:nvSpPr>
        <p:spPr>
          <a:xfrm>
            <a:off x="396252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8"/>
          <p:cNvSpPr/>
          <p:nvPr/>
        </p:nvSpPr>
        <p:spPr>
          <a:xfrm>
            <a:off x="838188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556272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6781680" y="3200400"/>
            <a:ext cx="0" cy="14479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4495680" y="533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 perka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 flipH="1" rot="16200000">
            <a:off x="5218560" y="1866960"/>
            <a:ext cx="762120" cy="6019560"/>
          </a:xfrm>
          <a:custGeom>
            <a:avLst/>
            <a:gdLst>
              <a:gd name="textAreaLeft" fmla="*/ -360 w 762120"/>
              <a:gd name="textAreaRight" fmla="*/ 274680 w 76212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14240" y="1676160"/>
            <a:ext cx="6095880" cy="609480"/>
          </a:xfrm>
          <a:prstGeom prst="rect">
            <a:avLst/>
          </a:prstGeom>
          <a:solidFill>
            <a:srgbClr val="ffff00">
              <a:alpha val="8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 – 10 suku 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371600" y="3124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kan kurau ikan ker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0481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39625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7242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55627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8672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7816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92468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754380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8305920" y="2971800"/>
            <a:ext cx="0" cy="144792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 flipH="1" rot="16200000">
            <a:off x="5218560" y="1866960"/>
            <a:ext cx="762120" cy="6019560"/>
          </a:xfrm>
          <a:custGeom>
            <a:avLst/>
            <a:gdLst>
              <a:gd name="textAreaLeft" fmla="*/ -360 w 762120"/>
              <a:gd name="textAreaRight" fmla="*/ 274680 w 762120"/>
              <a:gd name="textAreaTop" fmla="*/ 156960 h 6019560"/>
              <a:gd name="textAreaBottom" fmla="*/ 5862600 h 601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4495680" y="53341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 suku 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2952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297180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tih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3" name="Picture 8" descr="MCj04114980000[1]"/>
          <p:cNvPicPr/>
          <p:nvPr/>
        </p:nvPicPr>
        <p:blipFill>
          <a:blip r:embed="rId2"/>
          <a:stretch/>
        </p:blipFill>
        <p:spPr>
          <a:xfrm>
            <a:off x="7315200" y="464832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9"/>
          <p:cNvSpPr/>
          <p:nvPr/>
        </p:nvSpPr>
        <p:spPr>
          <a:xfrm>
            <a:off x="2286000" y="5715000"/>
            <a:ext cx="47242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a li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IVITI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000" spc="-1" strike="noStrike">
                <a:solidFill>
                  <a:srgbClr val="000000"/>
                </a:solidFill>
                <a:latin typeface="PineLintGerm"/>
              </a:rPr>
              <a:t>MARI KITA KIRA SUKU K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Sudah dapat batang gaharu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       </a:t>
            </a:r>
            <a:br>
              <a:rPr sz="2400"/>
            </a:b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Batang cendana diketepikan ;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Sudah dapat teman yang baru,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Kawan lama jangan lupakan.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 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9343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934320" y="19051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58000" y="2514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8580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000" spc="-1" strike="noStrike">
                <a:solidFill>
                  <a:srgbClr val="000000"/>
                </a:solidFill>
                <a:latin typeface="PineLintGerm"/>
              </a:rPr>
              <a:t>MARI KITA KIRA SUKU K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Singapura dilanggar todak,           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Todak datang dari Jawa;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Hidup kalau beradat tidak,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Ibarat patung tanpa jiwa.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ms-MY" sz="2400" spc="-1" strike="noStrike">
                <a:solidFill>
                  <a:srgbClr val="000000"/>
                </a:solidFill>
                <a:latin typeface="Arial"/>
              </a:rPr>
              <a:t>=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400800" y="1614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400800" y="32907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400800" y="2438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400800" y="4205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295280" y="1828800"/>
            <a:ext cx="6782040" cy="35060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kan kurau ikan kerisi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tiga dengan ikan parang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lau pandai berbasa-basi,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 mana pergi dihormat or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213372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kan kurau ikan keri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tiga dengan ikan para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au pandai berbasa-ba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 mana pergi dihormat o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5943600" y="22860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6019920" y="358128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477120" y="3733920"/>
            <a:ext cx="2209680" cy="520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K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6324480" y="2362320"/>
            <a:ext cx="2590920" cy="52056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13716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3048120" y="2438280"/>
            <a:ext cx="57150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tih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53" name="Picture 4" descr="MCj04114980000[1]"/>
          <p:cNvPicPr/>
          <p:nvPr/>
        </p:nvPicPr>
        <p:blipFill>
          <a:blip r:embed="rId2"/>
          <a:stretch/>
        </p:blipFill>
        <p:spPr>
          <a:xfrm>
            <a:off x="7315200" y="464832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2286000" y="5715000"/>
            <a:ext cx="47242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a li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IVITI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0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4"/>
          <p:cNvSpPr/>
          <p:nvPr/>
        </p:nvSpPr>
        <p:spPr>
          <a:xfrm>
            <a:off x="710280" y="3122280"/>
            <a:ext cx="553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mnya ubi diam beri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amnya besi lelama berkar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5715000" y="228600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019920" y="2286000"/>
            <a:ext cx="2209680" cy="609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6400800" y="3429000"/>
            <a:ext cx="15238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k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-228600" y="288360"/>
            <a:ext cx="967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MARI KENAL PAS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Pembayang </a:t>
            </a:r>
            <a:r>
              <a:rPr b="1" lang="sv-SE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 Maks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838080" y="220788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yam sabung jangan dikas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au dikasi jadi mudara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9"/>
          <p:cNvSpPr/>
          <p:nvPr/>
        </p:nvSpPr>
        <p:spPr>
          <a:xfrm>
            <a:off x="6134040" y="335268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1519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Apa itu </a:t>
            </a: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PANTUN</a:t>
            </a: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90920" y="1371600"/>
            <a:ext cx="4038480" cy="452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jenis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‘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rumpamaan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au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‘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ribahasa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uisi la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ang terdiri daripada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4 bar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alam setiap rangk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thought-girl"/>
          <p:cNvPicPr/>
          <p:nvPr/>
        </p:nvPicPr>
        <p:blipFill>
          <a:blip r:embed="rId2"/>
          <a:stretch/>
        </p:blipFill>
        <p:spPr>
          <a:xfrm>
            <a:off x="6934320" y="4572000"/>
            <a:ext cx="1936800" cy="1889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7010280" y="4952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MM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1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/>
          <p:cNvSpPr/>
          <p:nvPr/>
        </p:nvSpPr>
        <p:spPr>
          <a:xfrm>
            <a:off x="5638680" y="228600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5943600" y="2286000"/>
            <a:ext cx="2209680" cy="609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019920" y="3276720"/>
            <a:ext cx="15238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ks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-304920" y="304200"/>
            <a:ext cx="9677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MARI KENAL PAST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P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embayang </a:t>
            </a:r>
            <a:r>
              <a:rPr b="1" lang="sv-SE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&amp;</a:t>
            </a:r>
            <a:r>
              <a:rPr b="1" lang="sv-SE" sz="4000" spc="-1" strike="noStrike">
                <a:solidFill>
                  <a:srgbClr val="000000"/>
                </a:solidFill>
                <a:latin typeface="PineLintGerm"/>
                <a:ea typeface="Times New Roman"/>
              </a:rPr>
              <a:t> Maks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63700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5638680" y="3276720"/>
            <a:ext cx="114480" cy="685800"/>
          </a:xfrm>
          <a:custGeom>
            <a:avLst/>
            <a:gdLst>
              <a:gd name="textAreaLeft" fmla="*/ 0 w 114480"/>
              <a:gd name="textAreaRight" fmla="*/ 41400 w 1144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862560" y="2163600"/>
            <a:ext cx="46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kan parang ikan tenggi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iga dengan ikan keto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805320" y="3214800"/>
            <a:ext cx="49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alau pandai membawa di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e mana pergi orang su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ntun 2 kerat : KAR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57200" y="288144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Gendang gendut tali kecap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Kenyang perut senang h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172200" y="2819520"/>
            <a:ext cx="1981080" cy="457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mba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400800" y="3429000"/>
            <a:ext cx="137160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ks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1" descr=""/>
          <p:cNvPicPr/>
          <p:nvPr/>
        </p:nvPicPr>
        <p:blipFill>
          <a:blip r:embed="rId2"/>
          <a:stretch/>
        </p:blipFill>
        <p:spPr>
          <a:xfrm>
            <a:off x="685800" y="4660920"/>
            <a:ext cx="1790640" cy="1587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"/>
          <p:cNvPicPr/>
          <p:nvPr/>
        </p:nvPicPr>
        <p:blipFill>
          <a:blip r:embed="rId3"/>
          <a:stretch/>
        </p:blipFill>
        <p:spPr>
          <a:xfrm>
            <a:off x="5826240" y="4495680"/>
            <a:ext cx="2784240" cy="205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"/>
          <p:cNvPicPr/>
          <p:nvPr/>
        </p:nvPicPr>
        <p:blipFill>
          <a:blip r:embed="rId4"/>
          <a:stretch/>
        </p:blipFill>
        <p:spPr>
          <a:xfrm>
            <a:off x="3530520" y="4749840"/>
            <a:ext cx="157500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105160" cy="35812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ema RIMA (rhyme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tulis sebagai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14400" y="18288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kan kurau ikan keris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tiga dengan ikan parang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lau pandai berbasa-bas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 mana pergi dihormat ora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6553080" y="2362320"/>
            <a:ext cx="1219320" cy="6858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7162920" y="3429000"/>
            <a:ext cx="1143000" cy="7621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095880" y="3048120"/>
            <a:ext cx="533520" cy="5331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4952880" y="1905120"/>
            <a:ext cx="609840" cy="609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8420040" y="3048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8420040" y="1905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8420040" y="2514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8420040" y="3657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7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457200" y="182880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ila langkah sauh dibong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yung terkipas, meriam terb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alau peluru tidak bertu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alau kasih tidak seb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5562720" y="1828800"/>
            <a:ext cx="60948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8420040" y="34290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8420040" y="19051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8420040" y="4038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8420040" y="2819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7620120" y="2438280"/>
            <a:ext cx="60948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410080" y="3124080"/>
            <a:ext cx="609840" cy="533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248520" y="3733920"/>
            <a:ext cx="609480" cy="5331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13716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3"/>
          <p:cNvSpPr txBox="1"/>
          <p:nvPr/>
        </p:nvSpPr>
        <p:spPr>
          <a:xfrm>
            <a:off x="3124080" y="228600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tiha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08" name="Picture 4" descr="MCj04114980000[1]"/>
          <p:cNvPicPr/>
          <p:nvPr/>
        </p:nvPicPr>
        <p:blipFill>
          <a:blip r:embed="rId2"/>
          <a:stretch/>
        </p:blipFill>
        <p:spPr>
          <a:xfrm>
            <a:off x="7315200" y="4648320"/>
            <a:ext cx="1584360" cy="1844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2286000" y="5715000"/>
            <a:ext cx="472428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la li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KTIVITI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685800" y="1921320"/>
            <a:ext cx="822960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sang lilin dibawa mudik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kan makanan anak buaya;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ar miskin asalkan cerdik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Terlawan juga si orang kaya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DI MANA RIMANYA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Mari kita bulatkan rimany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4267080" y="2438280"/>
            <a:ext cx="60984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4419720" y="3352680"/>
            <a:ext cx="68580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5486400" y="2895480"/>
            <a:ext cx="533520" cy="53352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7467480" y="32907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46748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7467480" y="2895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7467480" y="37479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470520" y="2314440"/>
            <a:ext cx="851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karat mata cangkul,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garang mata anjing;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berat sama dipikul,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Yang ringan sama dijinjing.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DI MANA RIMANYA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PineLintGerm"/>
              </a:rPr>
              <a:t>Mari kita bulatkan rimany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4038480" y="2438280"/>
            <a:ext cx="762120" cy="4572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3962520" y="3352680"/>
            <a:ext cx="609480" cy="3812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876920" y="2895480"/>
            <a:ext cx="761760" cy="45720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5029200" y="3733920"/>
            <a:ext cx="762120" cy="60948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8077320" y="3200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8077320" y="2438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8077320" y="2819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077320" y="3657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Organization Chart 15"/>
          <p:cNvGrpSpPr/>
          <p:nvPr/>
        </p:nvGrpSpPr>
        <p:grpSpPr>
          <a:xfrm>
            <a:off x="762120" y="2424960"/>
            <a:ext cx="7847280" cy="2058840"/>
            <a:chOff x="762120" y="2424960"/>
            <a:chExt cx="7847280" cy="2058840"/>
          </a:xfrm>
        </p:grpSpPr>
        <p:cxnSp>
          <p:nvCxnSpPr>
            <p:cNvPr id="235" name="_s1028"/>
            <p:cNvCxnSpPr>
              <a:stCxn id="236" idx="0"/>
              <a:endCxn id="237" idx="2"/>
            </p:cNvCxnSpPr>
            <p:nvPr/>
          </p:nvCxnSpPr>
          <p:spPr>
            <a:xfrm flipV="1" rot="16200000">
              <a:off x="5549760" y="2484720"/>
              <a:ext cx="392040" cy="2121120"/>
            </a:xfrm>
            <a:prstGeom prst="bentConnector3">
              <a:avLst>
                <a:gd name="adj1" fmla="val 292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8" name="_s1029"/>
            <p:cNvCxnSpPr>
              <a:stCxn id="239" idx="0"/>
              <a:endCxn id="237" idx="2"/>
            </p:cNvCxnSpPr>
            <p:nvPr/>
          </p:nvCxnSpPr>
          <p:spPr>
            <a:xfrm flipH="1" flipV="1" rot="5400000">
              <a:off x="3429720" y="2485080"/>
              <a:ext cx="392040" cy="2121120"/>
            </a:xfrm>
            <a:prstGeom prst="bentConnector3">
              <a:avLst>
                <a:gd name="adj1" fmla="val 292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7" name="_s1030"/>
            <p:cNvSpPr/>
            <p:nvPr/>
          </p:nvSpPr>
          <p:spPr>
            <a:xfrm>
              <a:off x="2882520" y="2424960"/>
              <a:ext cx="3606480" cy="92484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Pantu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1"/>
            <p:cNvSpPr/>
            <p:nvPr/>
          </p:nvSpPr>
          <p:spPr>
            <a:xfrm>
              <a:off x="762120" y="3741840"/>
              <a:ext cx="3606480" cy="7419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ar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2"/>
            <p:cNvSpPr/>
            <p:nvPr/>
          </p:nvSpPr>
          <p:spPr>
            <a:xfrm>
              <a:off x="5002920" y="3741840"/>
              <a:ext cx="3606480" cy="74196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Isi kandungan/Te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27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Organization Chart 14"/>
          <p:cNvGrpSpPr/>
          <p:nvPr/>
        </p:nvGrpSpPr>
        <p:grpSpPr>
          <a:xfrm>
            <a:off x="152280" y="1143000"/>
            <a:ext cx="8839080" cy="5180760"/>
            <a:chOff x="152280" y="1143000"/>
            <a:chExt cx="8839080" cy="5180760"/>
          </a:xfrm>
        </p:grpSpPr>
        <p:cxnSp>
          <p:nvCxnSpPr>
            <p:cNvPr id="243" name="_s2052"/>
            <p:cNvCxnSpPr>
              <a:stCxn id="244" idx="0"/>
              <a:endCxn id="245" idx="2"/>
            </p:cNvCxnSpPr>
            <p:nvPr/>
          </p:nvCxnSpPr>
          <p:spPr>
            <a:xfrm flipV="1" rot="16200000">
              <a:off x="5781600" y="1467720"/>
              <a:ext cx="1217160" cy="363744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2053"/>
            <p:cNvCxnSpPr>
              <a:stCxn id="247" idx="0"/>
              <a:endCxn id="245" idx="2"/>
            </p:cNvCxnSpPr>
            <p:nvPr/>
          </p:nvCxnSpPr>
          <p:spPr>
            <a:xfrm flipV="1" rot="16200000">
              <a:off x="4718520" y="2530800"/>
              <a:ext cx="1217160" cy="151164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2054"/>
            <p:cNvCxnSpPr>
              <a:stCxn id="249" idx="0"/>
              <a:endCxn id="245" idx="2"/>
            </p:cNvCxnSpPr>
            <p:nvPr/>
          </p:nvCxnSpPr>
          <p:spPr>
            <a:xfrm flipH="1" flipV="1" rot="5400000">
              <a:off x="3506400" y="2829600"/>
              <a:ext cx="1217160" cy="91440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2055"/>
            <p:cNvCxnSpPr>
              <a:stCxn id="251" idx="0"/>
              <a:endCxn id="245" idx="2"/>
            </p:cNvCxnSpPr>
            <p:nvPr/>
          </p:nvCxnSpPr>
          <p:spPr>
            <a:xfrm flipH="1" flipV="1" rot="5400000">
              <a:off x="2294280" y="1617480"/>
              <a:ext cx="1217160" cy="3338280"/>
            </a:xfrm>
            <a:prstGeom prst="bentConnector3">
              <a:avLst>
                <a:gd name="adj1" fmla="val 93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5" name="_s2056"/>
            <p:cNvSpPr/>
            <p:nvPr/>
          </p:nvSpPr>
          <p:spPr>
            <a:xfrm>
              <a:off x="3834000" y="1143000"/>
              <a:ext cx="1476720" cy="1535760"/>
            </a:xfrm>
            <a:custGeom>
              <a:avLst/>
              <a:gdLst>
                <a:gd name="textAreaLeft" fmla="*/ 72000 w 1476720"/>
                <a:gd name="textAreaRight" fmla="*/ 1404720 w 1476720"/>
                <a:gd name="textAreaTop" fmla="*/ 72000 h 1535760"/>
                <a:gd name="textAreaBottom" fmla="*/ 1463760 h 1535760"/>
              </a:gdLst>
              <a:ahLst/>
              <a:rect l="textAreaLeft" t="textAreaTop" r="textAreaRight" b="textAreaBottom"/>
              <a:pathLst>
                <a:path w="21600" h="22463">
                  <a:moveTo>
                    <a:pt x="3600" y="0"/>
                  </a:moveTo>
                  <a:arcTo wR="3600" hR="3600" stAng="16200000" swAng="-5400000"/>
                  <a:lnTo>
                    <a:pt x="0" y="18863"/>
                  </a:lnTo>
                  <a:arcTo wR="3600" hR="3600" stAng="10800000" swAng="-5400000"/>
                  <a:lnTo>
                    <a:pt x="18000" y="224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0" spc="-1" strike="noStrike">
                  <a:solidFill>
                    <a:srgbClr val="000000"/>
                  </a:solidFill>
                  <a:latin typeface="Comic Sans MS"/>
                </a:rPr>
                <a:t>Baris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57"/>
            <p:cNvSpPr/>
            <p:nvPr/>
          </p:nvSpPr>
          <p:spPr>
            <a:xfrm>
              <a:off x="152280" y="3895200"/>
              <a:ext cx="2163240" cy="1595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Karmina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(2 kera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58"/>
            <p:cNvSpPr/>
            <p:nvPr/>
          </p:nvSpPr>
          <p:spPr>
            <a:xfrm>
              <a:off x="2576520" y="3895200"/>
              <a:ext cx="2163240" cy="1595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Comic Sans MS"/>
                </a:rPr>
                <a:t>Quatrai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(4 kerat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59"/>
            <p:cNvSpPr/>
            <p:nvPr/>
          </p:nvSpPr>
          <p:spPr>
            <a:xfrm>
              <a:off x="5001120" y="3895200"/>
              <a:ext cx="2163240" cy="1595520"/>
            </a:xfrm>
            <a:prstGeom prst="roundRect">
              <a:avLst>
                <a:gd name="adj" fmla="val 16667"/>
              </a:avLst>
            </a:prstGeom>
            <a:solidFill>
              <a:srgbClr val="00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6,8,10,12 kera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2060"/>
            <p:cNvSpPr/>
            <p:nvPr/>
          </p:nvSpPr>
          <p:spPr>
            <a:xfrm>
              <a:off x="7425360" y="3895200"/>
              <a:ext cx="1566000" cy="2428560"/>
            </a:xfrm>
            <a:custGeom>
              <a:avLst/>
              <a:gdLst>
                <a:gd name="textAreaLeft" fmla="*/ 76320 w 1566000"/>
                <a:gd name="textAreaRight" fmla="*/ 1489680 w 1566000"/>
                <a:gd name="textAreaTop" fmla="*/ 76320 h 2428560"/>
                <a:gd name="textAreaBottom" fmla="*/ 2352240 h 2428560"/>
              </a:gdLst>
              <a:ahLst/>
              <a:rect l="textAreaLeft" t="textAreaTop" r="textAreaRight" b="textAreaBottom"/>
              <a:pathLst>
                <a:path w="21600" h="33495">
                  <a:moveTo>
                    <a:pt x="3600" y="0"/>
                  </a:moveTo>
                  <a:arcTo wR="3600" hR="3600" stAng="16200000" swAng="-5400000"/>
                  <a:lnTo>
                    <a:pt x="0" y="29895"/>
                  </a:lnTo>
                  <a:arcTo wR="3600" hR="3600" stAng="10800000" swAng="-5400000"/>
                  <a:lnTo>
                    <a:pt x="18000" y="33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>
                <a:alpha val="8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Pantun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Comic Sans MS"/>
                </a:rPr>
                <a:t>Berka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30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8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2" dur="385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4" dur="38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6" dur="385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38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3" dur="385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5" dur="38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7" dur="385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8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385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38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5" dur="385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7" dur="38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9" dur="38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385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385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8" dur="38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0" dur="385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ineLintGerm"/>
              </a:rPr>
              <a:t>Puisi L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y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urin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l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erom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ib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ANTU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Dot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aj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648320" y="304920"/>
            <a:ext cx="4038480" cy="114300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PineLintGerm"/>
              </a:rPr>
              <a:t>Puisi B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0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Pantun Berk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kap 1 :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Batu belah batu bertangkup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Kucing kurus menggaru pap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3             Kuasa Allah siapa ta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4             Kurus badan kerana tak ma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1             Kucing kurus menggaru pap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2             Papan digaru kayu m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3             Kurus badan kerana tak maka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4             Kurus kerana menahan h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1             Papan digaru kayu m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2             Tutuh jenalu dibunga C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3             Kurus kerana menahan hat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ris 4             Makan tak lalu tidur tak 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28600" y="2940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kap 2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228600" y="4495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ngkap 3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2971800" y="1752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>
            <a:off x="297180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2971800" y="1752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2971800" y="17524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>
            <a:off x="2971800" y="17524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9"/>
          <p:cNvSpPr/>
          <p:nvPr/>
        </p:nvSpPr>
        <p:spPr>
          <a:xfrm>
            <a:off x="3200400" y="464832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>
            <a:off x="3200400" y="3352680"/>
            <a:ext cx="0" cy="1295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3200400" y="3352680"/>
            <a:ext cx="2286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2"/>
          <p:cNvGrpSpPr/>
          <p:nvPr/>
        </p:nvGrpSpPr>
        <p:grpSpPr>
          <a:xfrm>
            <a:off x="3048120" y="3886200"/>
            <a:ext cx="380880" cy="1371600"/>
            <a:chOff x="3048120" y="3886200"/>
            <a:chExt cx="380880" cy="1371600"/>
          </a:xfrm>
        </p:grpSpPr>
        <p:sp>
          <p:nvSpPr>
            <p:cNvPr id="267" name="Line 23"/>
            <p:cNvSpPr/>
            <p:nvPr/>
          </p:nvSpPr>
          <p:spPr>
            <a:xfrm>
              <a:off x="3048120" y="5257800"/>
              <a:ext cx="3808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4"/>
            <p:cNvSpPr/>
            <p:nvPr/>
          </p:nvSpPr>
          <p:spPr>
            <a:xfrm>
              <a:off x="3048120" y="3886200"/>
              <a:ext cx="0" cy="1371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5"/>
            <p:cNvSpPr/>
            <p:nvPr/>
          </p:nvSpPr>
          <p:spPr>
            <a:xfrm>
              <a:off x="3048120" y="3886200"/>
              <a:ext cx="30492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27"/>
          <p:cNvSpPr/>
          <p:nvPr/>
        </p:nvSpPr>
        <p:spPr>
          <a:xfrm>
            <a:off x="3124080" y="3657600"/>
            <a:ext cx="3049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>
            <a:off x="3124080" y="2286000"/>
            <a:ext cx="0" cy="1371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9"/>
          <p:cNvSpPr/>
          <p:nvPr/>
        </p:nvSpPr>
        <p:spPr>
          <a:xfrm>
            <a:off x="3124080" y="2286000"/>
            <a:ext cx="2286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Diagram 26"/>
          <p:cNvGrpSpPr/>
          <p:nvPr/>
        </p:nvGrpSpPr>
        <p:grpSpPr>
          <a:xfrm>
            <a:off x="726480" y="1130400"/>
            <a:ext cx="7851960" cy="5645160"/>
            <a:chOff x="726480" y="1130400"/>
            <a:chExt cx="7851960" cy="5645160"/>
          </a:xfrm>
        </p:grpSpPr>
        <p:sp>
          <p:nvSpPr>
            <p:cNvPr id="274" name="_s3076"/>
            <p:cNvSpPr/>
            <p:nvPr/>
          </p:nvSpPr>
          <p:spPr>
            <a:xfrm flipV="1">
              <a:off x="4649040" y="2539800"/>
              <a:ext cx="0" cy="70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3077"/>
            <p:cNvSpPr/>
            <p:nvPr/>
          </p:nvSpPr>
          <p:spPr>
            <a:xfrm>
              <a:off x="3668400" y="1130400"/>
              <a:ext cx="1963080" cy="14112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ribaha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3078"/>
            <p:cNvSpPr/>
            <p:nvPr/>
          </p:nvSpPr>
          <p:spPr>
            <a:xfrm flipV="1">
              <a:off x="5340240" y="2952720"/>
              <a:ext cx="6998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3079"/>
            <p:cNvSpPr/>
            <p:nvPr/>
          </p:nvSpPr>
          <p:spPr>
            <a:xfrm>
              <a:off x="5751000" y="1751040"/>
              <a:ext cx="1963800" cy="141120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ias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3080"/>
            <p:cNvSpPr/>
            <p:nvPr/>
          </p:nvSpPr>
          <p:spPr>
            <a:xfrm>
              <a:off x="5627160" y="3952800"/>
              <a:ext cx="98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3081"/>
            <p:cNvSpPr/>
            <p:nvPr/>
          </p:nvSpPr>
          <p:spPr>
            <a:xfrm>
              <a:off x="6614640" y="3247920"/>
              <a:ext cx="1963800" cy="141156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in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3082"/>
            <p:cNvSpPr/>
            <p:nvPr/>
          </p:nvSpPr>
          <p:spPr>
            <a:xfrm>
              <a:off x="5340240" y="4449600"/>
              <a:ext cx="699840" cy="50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3083"/>
            <p:cNvSpPr/>
            <p:nvPr/>
          </p:nvSpPr>
          <p:spPr>
            <a:xfrm>
              <a:off x="5751000" y="4745160"/>
              <a:ext cx="1963800" cy="141120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at dan res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3084"/>
            <p:cNvSpPr/>
            <p:nvPr/>
          </p:nvSpPr>
          <p:spPr>
            <a:xfrm>
              <a:off x="4649040" y="4654440"/>
              <a:ext cx="0" cy="71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3085"/>
            <p:cNvSpPr/>
            <p:nvPr/>
          </p:nvSpPr>
          <p:spPr>
            <a:xfrm>
              <a:off x="3668400" y="5364000"/>
              <a:ext cx="1963080" cy="141156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ka-te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3086"/>
            <p:cNvSpPr/>
            <p:nvPr/>
          </p:nvSpPr>
          <p:spPr>
            <a:xfrm flipH="1">
              <a:off x="3257640" y="4448160"/>
              <a:ext cx="70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3087"/>
            <p:cNvSpPr/>
            <p:nvPr/>
          </p:nvSpPr>
          <p:spPr>
            <a:xfrm>
              <a:off x="1587960" y="4743360"/>
              <a:ext cx="1963080" cy="14112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Jen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3088"/>
            <p:cNvSpPr/>
            <p:nvPr/>
          </p:nvSpPr>
          <p:spPr>
            <a:xfrm flipH="1">
              <a:off x="2681280" y="3952800"/>
              <a:ext cx="99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3089"/>
            <p:cNvSpPr/>
            <p:nvPr/>
          </p:nvSpPr>
          <p:spPr>
            <a:xfrm>
              <a:off x="726480" y="3247920"/>
              <a:ext cx="1963080" cy="141156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ga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kepercaya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3090"/>
            <p:cNvSpPr/>
            <p:nvPr/>
          </p:nvSpPr>
          <p:spPr>
            <a:xfrm flipH="1" flipV="1">
              <a:off x="3257640" y="2952720"/>
              <a:ext cx="70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3091"/>
            <p:cNvSpPr/>
            <p:nvPr/>
          </p:nvSpPr>
          <p:spPr>
            <a:xfrm>
              <a:off x="1587960" y="1752480"/>
              <a:ext cx="1963080" cy="141156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endidik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3092"/>
            <p:cNvSpPr/>
            <p:nvPr/>
          </p:nvSpPr>
          <p:spPr>
            <a:xfrm>
              <a:off x="3668400" y="3249720"/>
              <a:ext cx="1963080" cy="141120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Tema/Is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71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7"/>
          <p:cNvSpPr/>
          <p:nvPr/>
        </p:nvSpPr>
        <p:spPr>
          <a:xfrm>
            <a:off x="2819520" y="1676520"/>
            <a:ext cx="3352680" cy="119124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ntun pusa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752480" y="3429000"/>
            <a:ext cx="5715000" cy="13129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dak boleh diubahsu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267080" y="251460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Jenis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1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2879640" y="1636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457200" y="1905120"/>
            <a:ext cx="8077320" cy="2928600"/>
          </a:xfrm>
          <a:prstGeom prst="rect">
            <a:avLst/>
          </a:prstGeom>
          <a:noFill/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am jawa pokok di huta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bawa orang tanam ke des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lagi nyawa dikandung badan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idaklah hamba berputus asa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Pantun Pusa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ineLintGerm"/>
              </a:rPr>
              <a:t>Pembi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762120" y="1676520"/>
            <a:ext cx="7696080" cy="419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alam mencipta pantu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entuk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JENI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ant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MAKSU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Pembaya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ang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ENA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Unsur alam &amp; keinda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ilih perkataan/frasa yang menarik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j04382030000[1]"/>
          <p:cNvPicPr/>
          <p:nvPr/>
        </p:nvPicPr>
        <p:blipFill>
          <a:blip r:embed="rId2"/>
          <a:stretch/>
        </p:blipFill>
        <p:spPr>
          <a:xfrm>
            <a:off x="6705720" y="1066680"/>
            <a:ext cx="243828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4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PineLintGerm"/>
              </a:rPr>
              <a:t>Pelestarian Pantun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3124080" y="685800"/>
            <a:ext cx="2895840" cy="85572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tandingan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rbalas pant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6019920" y="5257800"/>
            <a:ext cx="2590560" cy="85572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khemahan pantu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2209680" y="5486400"/>
            <a:ext cx="3048120" cy="474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antun dalam lag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9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5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Fungsi Pan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666520" y="164628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bu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didi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ahan peras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6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9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PineLintGerm"/>
              </a:rPr>
              <a:t>TAMAT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PineLintGerm"/>
              </a:rPr>
              <a:t>Terima kasi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"/>
          <p:cNvSpPr/>
          <p:nvPr/>
        </p:nvSpPr>
        <p:spPr>
          <a:xfrm>
            <a:off x="0" y="3429000"/>
            <a:ext cx="1905120" cy="0"/>
          </a:xfrm>
          <a:prstGeom prst="line">
            <a:avLst/>
          </a:prstGeom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7238880" y="3429000"/>
            <a:ext cx="1905120" cy="0"/>
          </a:xfrm>
          <a:prstGeom prst="line">
            <a:avLst/>
          </a:prstGeom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"/>
          <p:cNvSpPr/>
          <p:nvPr/>
        </p:nvSpPr>
        <p:spPr>
          <a:xfrm>
            <a:off x="2666880" y="1785960"/>
            <a:ext cx="6019920" cy="6066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kurik itu kund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merah itu saga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baik itu budi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1" lang="en-SG" sz="4400" spc="-1" strike="noStrike">
                <a:solidFill>
                  <a:srgbClr val="000000"/>
                </a:solidFill>
                <a:latin typeface="Monotype Corsiva"/>
              </a:rPr>
              <a:t>Yang indah itu bahasa.</a:t>
            </a:r>
            <a:r>
              <a:rPr b="1" lang="en-SG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k milik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asli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ang Mela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dak dipengaruhi mana-mana jenis puisi bangsa 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335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Apa itu </a:t>
            </a: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PANTUN</a:t>
            </a: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momgoose"/>
          <p:cNvPicPr/>
          <p:nvPr/>
        </p:nvPicPr>
        <p:blipFill>
          <a:blip r:embed="rId2"/>
          <a:stretch/>
        </p:blipFill>
        <p:spPr>
          <a:xfrm>
            <a:off x="6705720" y="2971800"/>
            <a:ext cx="16920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Syair </a:t>
            </a: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&amp; </a:t>
            </a:r>
            <a:r>
              <a:rPr b="1" lang="en-US" sz="5400" spc="-1" strike="noStrike">
                <a:solidFill>
                  <a:srgbClr val="000000"/>
                </a:solidFill>
                <a:latin typeface="PineLintGerm"/>
              </a:rPr>
              <a:t>Pantu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isi bangsa Arab &amp; Pa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perkenalkan kepada orang Melayu ketika Islam datang ke Tanah Melay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3962520" cy="4525920"/>
          </a:xfrm>
          <a:prstGeom prst="rect">
            <a:avLst/>
          </a:prstGeom>
          <a:solidFill>
            <a:srgbClr val="ffff00">
              <a:alpha val="6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nt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isi orang Melay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dak dipengaruhi mana-mana pih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6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kan belanak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jadikan hadiah untuk pasangan yang baru mendapat zu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533520" y="228600"/>
            <a:ext cx="8229600" cy="1143000"/>
            <a:chOff x="533520" y="228600"/>
            <a:chExt cx="8229600" cy="1143000"/>
          </a:xfrm>
        </p:grpSpPr>
        <p:sp>
          <p:nvSpPr>
            <p:cNvPr id="69" name="Rectangle 8"/>
            <p:cNvSpPr/>
            <p:nvPr/>
          </p:nvSpPr>
          <p:spPr>
            <a:xfrm>
              <a:off x="533520" y="22860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PineLintGerm"/>
                </a:rPr>
                <a:t>Asal  Usul Pantu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3200400" y="9442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12" descr="MCj02324250000[1]"/>
          <p:cNvPicPr/>
          <p:nvPr/>
        </p:nvPicPr>
        <p:blipFill>
          <a:blip r:embed="rId2"/>
          <a:stretch/>
        </p:blipFill>
        <p:spPr>
          <a:xfrm>
            <a:off x="228600" y="4876920"/>
            <a:ext cx="1220760" cy="1612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4876920" y="3124080"/>
            <a:ext cx="42670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un ribu-ribu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gunakan untuk memberitahu bahawa pasangan itu akan dapat banyak wang/h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762120" y="1981080"/>
            <a:ext cx="78483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jadi lambang/ simbol penguc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1523880" y="5486400"/>
            <a:ext cx="3733920" cy="951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a: </a:t>
            </a:r>
            <a:br>
              <a:rPr sz="1600"/>
            </a:b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Sejenis ikan la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jenis tumbuhan, sel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ineLintGerm"/>
              </a:rPr>
              <a:t>Penggu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62120" y="2077920"/>
            <a:ext cx="3733560" cy="365688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bualan har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suka r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teka-teki &amp; lirik lag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lis perkahw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ulakan &amp; menutup majl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762120" y="1447920"/>
            <a:ext cx="3733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hu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4800600" y="1447920"/>
            <a:ext cx="3276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karang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800600" y="2057400"/>
            <a:ext cx="3276720" cy="37818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dak l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rang l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ya segelin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rang didengar (kecuali dalam d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urang diamalk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ineLintGerm"/>
              </a:rPr>
              <a:t>Penggunaan pantu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2590560"/>
            <a:ext cx="3657600" cy="327636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nek moya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a Hur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ara li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reading-teacher"/>
          <p:cNvPicPr/>
          <p:nvPr/>
        </p:nvPicPr>
        <p:blipFill>
          <a:blip r:embed="rId2"/>
          <a:stretch/>
        </p:blipFill>
        <p:spPr>
          <a:xfrm>
            <a:off x="762120" y="1752480"/>
            <a:ext cx="31525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Rectangle 7"/>
          <p:cNvSpPr/>
          <p:nvPr/>
        </p:nvSpPr>
        <p:spPr>
          <a:xfrm>
            <a:off x="4495680" y="1676520"/>
            <a:ext cx="3733920" cy="6858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gapa Lis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Rentak </a:t>
            </a:r>
            <a:r>
              <a:rPr b="1" lang="en-US" sz="3600" spc="-1" strike="noStrike">
                <a:solidFill>
                  <a:srgbClr val="000000"/>
                </a:solidFill>
                <a:latin typeface="PineLintGerm"/>
              </a:rPr>
              <a:t>dan</a:t>
            </a:r>
            <a:r>
              <a:rPr b="1" lang="en-US" sz="4400" spc="-1" strike="noStrike">
                <a:solidFill>
                  <a:srgbClr val="000000"/>
                </a:solidFill>
                <a:latin typeface="PineLintGerm"/>
              </a:rPr>
              <a:t> Irama</a:t>
            </a:r>
            <a:r>
              <a:rPr b="0" lang="en-US" sz="4400" spc="-1" strike="noStrike">
                <a:solidFill>
                  <a:srgbClr val="000000"/>
                </a:solidFill>
                <a:latin typeface="PineLintGerm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ideo orang melafazkan pantun) – dondang sayang baba nyo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6:25:46Z</dcterms:created>
  <dc:creator>Izzati Jasni</dc:creator>
  <dc:description/>
  <dc:language>en-US</dc:language>
  <cp:lastModifiedBy>Noryati</cp:lastModifiedBy>
  <dcterms:modified xsi:type="dcterms:W3CDTF">2009-02-24T14:16:59Z</dcterms:modified>
  <cp:revision>100</cp:revision>
  <dc:subject/>
  <dc:title>Slide 1</dc:title>
</cp:coreProperties>
</file>